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Sanford's Squar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763640" y="-171360"/>
            <a:ext cx="4956120" cy="52020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763640" y="270828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504800" y="4937040"/>
            <a:ext cx="76392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diatomic elements: 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,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, F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, Cl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, Br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), 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s), and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971640" y="530064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ll me the names and formulas of the 3 polyatomic molecu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187280" y="5546880"/>
            <a:ext cx="76392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osphorous P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s), sulfur S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s) and ozone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for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an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55640" y="5157720"/>
            <a:ext cx="763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y sandwich smells like rotten egg odor.  What is the formula for this odo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g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971640" y="5157720"/>
            <a:ext cx="831528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like to swim in 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and drink 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.  Identify the names for the formulas that I have use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900000" y="530064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ter , acetate(dill pickle juic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6920" y="530064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monia has an irritating odor…what is it’s formula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504800" y="5229360"/>
            <a:ext cx="7639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)  (did you know it is found in smelling salts?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ve the name for 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56000" y="227664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411280" y="227664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692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formula and charge for phosphat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2708280"/>
            <a:ext cx="494532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5157720"/>
            <a:ext cx="763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ve the name and formula of the sugar found in a sugar bowl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rose   C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692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want to know what “lucky 7” means? Give me the list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Jo Ellen</cp:lastModifiedBy>
  <dcterms:modified xsi:type="dcterms:W3CDTF">2010-10-18T02:27:34Z</dcterms:modified>
  <cp:revision>26</cp:revision>
  <dc:subject/>
  <dc:title>No Slide Title</dc:title>
</cp:coreProperties>
</file>